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E98-DDD8-4589-BEFE-0A1EDCE2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133-C8BA-486C-AECB-803ED2D1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CE3-1786-4354-AB34-8CA660D1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2A0-D1B8-4CCD-A849-CFF0FA0B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883-A970-4B28-BE31-2ACB1A6B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B32-7006-498C-A197-4694DBA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C85-ED86-465C-A07A-4F46B6E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FA2-EA13-4C86-A152-50B793E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DE5-6D95-405D-84BC-0858FAF6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95B-5F9F-43C2-9A9D-6F82177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951-162E-4807-8824-84030DC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51E-B37B-4B6E-B739-0794332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142-7687-40DF-AD0D-61D5324B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Bias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o you think boys are smarter than gir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Do you think girls are better at sports than gir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Do you think girls are faster than boy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Do you think boys are better at sports than gir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Do you think girls are better at everything than boy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Do you think only girls should tea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Do you think real men don’t c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Only tough men wear pin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Do you think men are physically tougher than wom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Do you think men are better at everything than wom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81040" y="1411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1411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5:13:34Z</dcterms:created>
  <dc:creator>Vanessa Collier</dc:creator>
  <dc:description/>
  <dc:language>en-US</dc:language>
  <cp:lastModifiedBy>Vanessa Collier</cp:lastModifiedBy>
  <dcterms:modified xsi:type="dcterms:W3CDTF">2010-04-13T17:16:50Z</dcterms:modified>
  <cp:revision>6</cp:revision>
  <dc:subject/>
  <dc:title>Gender Bias Survey</dc:title>
</cp:coreProperties>
</file>